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01D-8BEE-4AE5-A29F-B6B9AE13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5331-F4C6-4F87-B641-9BF42A72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DA2-85E2-4CBC-B1CC-A938EE59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86E0-9E50-4196-867C-CBDF9B6B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C352-8693-4612-ABAF-8E0A6FC4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FDAF-F4A3-440C-9672-227A6AE6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B58F-B6DE-4B1E-BCC8-3BC711D0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C33-6B0F-4A9F-9B41-D7FBC098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5454-D955-4863-990C-EA1DE67B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AC0-1988-40C1-A55F-793B5282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E6CF-AE7A-4E0C-AAB8-894A1F89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DF6-819B-4802-99DF-911666B4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F0F0A-22E1-4654-9286-CC5D19BC81E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1260360"/>
            <a:ext cx="8753760" cy="574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turma dos g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20720" y="1768320"/>
            <a:ext cx="3990960" cy="4989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avia um gato muito preocupado com seus amig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turma dos g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e viviam discutindo sobre a falta de ratos no mu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51600" y="2066760"/>
            <a:ext cx="44258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turmados g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om rom disse que os ratos poderiam voltar que eles ficassem calmos. Rom rom era muito tranqui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51600" y="2549520"/>
            <a:ext cx="44258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turma dos g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4800" y="1768320"/>
            <a:ext cx="4224240" cy="4989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s um gato desconfiado não acreditou e foi para o mundo em busca de uma solução para o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2662200"/>
            <a:ext cx="90709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777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8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1:30:46Z</dcterms:created>
  <dc:creator/>
  <dc:description/>
  <dc:language>en-US</dc:language>
  <cp:lastModifiedBy/>
  <cp:revision>1</cp:revision>
  <dc:subject/>
  <dc:title/>
</cp:coreProperties>
</file>